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E594-92FF-4EE4-8884-66D293B2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ECF-35CA-4908-BF45-A1A14483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2AB-87D5-4723-A3E2-EBE04E2D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7C7-4190-4C49-B315-8F201402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F59-8E77-44E4-8139-B9F08F97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721E-2E44-4DFC-A91C-CEBBED0C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E864-43E2-4B3B-AA1C-6473A593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1528-80AB-4556-AC6D-64A0A53E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63F-F998-4CAD-B5CE-21D91805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1F1-40B3-4AEF-AF6D-91C6E5CD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350-8FBA-4337-AEAA-03AC215D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FCB-F780-47EC-AF1F-0383206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68F3-6C70-4B3C-8222-98ED2F5A54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305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6600"/>
                </a:solidFill>
                <a:latin typeface="楷体"/>
                <a:ea typeface="楷体"/>
              </a:rPr>
              <a:t>奇迹项目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0481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第一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80074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30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914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本周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828800"/>
            <a:ext cx="2666880" cy="1371600"/>
          </a:xfrm>
          <a:prstGeom prst="rightArrow">
            <a:avLst>
              <a:gd name="adj1" fmla="val 50000"/>
              <a:gd name="adj2" fmla="val 486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两次寻找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52680" y="3505320"/>
            <a:ext cx="2667240" cy="1523880"/>
          </a:xfrm>
          <a:prstGeom prst="rightArrow">
            <a:avLst>
              <a:gd name="adj1" fmla="val 50000"/>
              <a:gd name="adj2" fmla="val 437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两次寻找项目的体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105520"/>
            <a:ext cx="2590920" cy="1371600"/>
          </a:xfrm>
          <a:prstGeom prst="rightArrow">
            <a:avLst>
              <a:gd name="adj1" fmla="val 50000"/>
              <a:gd name="adj2" fmla="val 47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失败分析与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04920"/>
            <a:ext cx="2286000" cy="13716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Arial"/>
              </a:rPr>
              <a:t>项目寻找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提前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2388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避免与其他组寻找项目地点的冲突，提前询问其他组寻找地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609480"/>
            <a:ext cx="59562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初次寻找项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285640"/>
            <a:ext cx="76960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点：火车站一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下午一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：主要针对马路边的一些店铺，酒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：全部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再次寻找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点：太平街附近一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6-9-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过：针对平和堂的商务楼里的公司进行询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果：失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26640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寻找体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明确的目标（目的性不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一个强有力的说服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寻找中遇到的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寻找的很盲目，不会筛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选址也不清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分析与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寻找项目中，没有事先调研，选址盲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先没有组织好语言，说服力差，难让人信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66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8:08:17Z</dcterms:created>
  <dc:creator>mei yang</dc:creator>
  <dc:description/>
  <dc:language>en-US</dc:language>
  <cp:lastModifiedBy>793564075@qq.com</cp:lastModifiedBy>
  <dcterms:modified xsi:type="dcterms:W3CDTF">2016-09-06T15:07:5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