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A01A-E48B-4684-A6E7-73B0EBE804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B73B-B9CD-470E-9F70-51CEB1C262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2AE1-8C0C-4D75-9B9F-FD33CD24EF2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B90-0EB4-499C-94E5-645466C0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2B9-1B4E-42BC-BA72-174D47BA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AEB-06BB-475A-B624-01F3D908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5A50-770F-4B7A-B296-C9900399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D8A-7F46-49A5-9C00-CBF9B0FB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2589-92DD-4C44-94AD-EE99837F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52C-AB42-4EF6-AD6B-6512A639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C1B8-B9C3-4020-BB21-DD51ED94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2FF-591B-4943-BFDD-C79CC27E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52C-9DA5-42FD-9C82-6A9B3DC0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BE90-864D-4EFD-8C28-3EB3866C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FAF-BC15-4FC2-84F7-B401C790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C6A8-931F-44DC-BCAC-7A0EA1AC39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rlee.com.cn/" TargetMode="External"/><Relationship Id="rId2" Type="http://schemas.openxmlformats.org/officeDocument/2006/relationships/hyperlink" Target="http://www.mrlee.com.cn/" TargetMode="External"/><Relationship Id="rId3" Type="http://schemas.openxmlformats.org/officeDocument/2006/relationships/hyperlink" Target="http://www.mrlee.com.cn/" TargetMode="External"/><Relationship Id="rId4" Type="http://schemas.openxmlformats.org/officeDocument/2006/relationships/hyperlink" Target="http://www.chaihuo.com/" TargetMode="External"/><Relationship Id="rId5" Type="http://schemas.openxmlformats.org/officeDocument/2006/relationships/hyperlink" Target="http://www.chaihuo.com/" TargetMode="External"/><Relationship Id="rId6" Type="http://schemas.openxmlformats.org/officeDocument/2006/relationships/hyperlink" Target="http://www.chaihuo.com/" TargetMode="External"/><Relationship Id="rId7" Type="http://schemas.openxmlformats.org/officeDocument/2006/relationships/hyperlink" Target="http://www.daronghe.cn/" TargetMode="External"/><Relationship Id="rId8" Type="http://schemas.openxmlformats.org/officeDocument/2006/relationships/hyperlink" Target="http://www.daronghe.cn/" TargetMode="External"/><Relationship Id="rId9" Type="http://schemas.openxmlformats.org/officeDocument/2006/relationships/hyperlink" Target="http://www.daronghe.cn/" TargetMode="External"/><Relationship Id="rId10" Type="http://schemas.openxmlformats.org/officeDocument/2006/relationships/hyperlink" Target="http://www.hndwc.com/" TargetMode="External"/><Relationship Id="rId11" Type="http://schemas.openxmlformats.org/officeDocument/2006/relationships/hyperlink" Target="http://www.hndwc.com/" TargetMode="External"/><Relationship Id="rId12" Type="http://schemas.openxmlformats.org/officeDocument/2006/relationships/hyperlink" Target="http://www.hndwc.com/" TargetMode="External"/><Relationship Id="rId1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32593;&#31449;&#35843;&#30740;&#25253;&#21578;.doc" TargetMode="External"/><Relationship Id="rId2" Type="http://schemas.openxmlformats.org/officeDocument/2006/relationships/hyperlink" Target="file:///&#32593;&#31449;&#35843;&#30740;&#25253;&#21578;.doc" TargetMode="Externa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8007480" cy="1225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楷体"/>
                <a:ea typeface="楷体"/>
              </a:rPr>
              <a:t>We</a:t>
            </a:r>
            <a:r>
              <a:rPr b="1" i="1" lang="zh-CN" sz="4400" spc="-1" strike="noStrike">
                <a:solidFill>
                  <a:srgbClr val="ff9900"/>
                </a:solidFill>
                <a:latin typeface="楷体"/>
                <a:ea typeface="楷体"/>
              </a:rPr>
              <a:t>奇迹项目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79640" y="3500280"/>
            <a:ext cx="51134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三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杨梅 刘恋 圣添姿 蒋锡佳 曾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单圆角矩形 3"/>
          <p:cNvSpPr/>
          <p:nvPr/>
        </p:nvSpPr>
        <p:spPr>
          <a:xfrm flipH="1">
            <a:off x="2986920" y="2070000"/>
            <a:ext cx="528840" cy="4953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3492360" y="2070000"/>
            <a:ext cx="2889360" cy="49536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确立项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单圆角矩形 5"/>
          <p:cNvSpPr/>
          <p:nvPr/>
        </p:nvSpPr>
        <p:spPr>
          <a:xfrm flipH="1">
            <a:off x="2986920" y="3649680"/>
            <a:ext cx="528840" cy="4935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3519360" y="3665520"/>
            <a:ext cx="2889360" cy="49356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调研文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单圆角矩形 7"/>
          <p:cNvSpPr/>
          <p:nvPr/>
        </p:nvSpPr>
        <p:spPr>
          <a:xfrm>
            <a:off x="6392880" y="2862360"/>
            <a:ext cx="528480" cy="4953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/>
          <p:cNvSpPr/>
          <p:nvPr/>
        </p:nvSpPr>
        <p:spPr>
          <a:xfrm>
            <a:off x="3492360" y="2865600"/>
            <a:ext cx="2889360" cy="49500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任务分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单圆角矩形 9"/>
          <p:cNvSpPr/>
          <p:nvPr/>
        </p:nvSpPr>
        <p:spPr>
          <a:xfrm>
            <a:off x="6419880" y="4446720"/>
            <a:ext cx="528480" cy="4950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0"/>
          <p:cNvSpPr/>
          <p:nvPr/>
        </p:nvSpPr>
        <p:spPr>
          <a:xfrm>
            <a:off x="3564000" y="4437000"/>
            <a:ext cx="2889360" cy="49536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3"/>
          <p:cNvSpPr/>
          <p:nvPr/>
        </p:nvSpPr>
        <p:spPr>
          <a:xfrm>
            <a:off x="199440" y="2100240"/>
            <a:ext cx="182628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2c9"/>
                </a:solidFill>
                <a:latin typeface="微软雅黑"/>
              </a:rPr>
              <a:t>Cont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14"/>
          <p:cNvSpPr/>
          <p:nvPr/>
        </p:nvSpPr>
        <p:spPr>
          <a:xfrm>
            <a:off x="1022400" y="1130400"/>
            <a:ext cx="869760" cy="869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000"/>
                </a:solidFill>
                <a:latin typeface="微软雅黑"/>
              </a:rPr>
              <a:t>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5"/>
          <p:cNvSpPr/>
          <p:nvPr/>
        </p:nvSpPr>
        <p:spPr>
          <a:xfrm>
            <a:off x="739800" y="1809720"/>
            <a:ext cx="682560" cy="68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微软雅黑"/>
              </a:rPr>
              <a:t>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立项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190760" cy="2791080"/>
          </a:xfrm>
          <a:prstGeom prst="rect">
            <a:avLst/>
          </a:prstGeom>
          <a:ln w="0">
            <a:noFill/>
          </a:ln>
        </p:spPr>
      </p:pic>
      <p:sp>
        <p:nvSpPr>
          <p:cNvPr id="64" name="矩形 10"/>
          <p:cNvSpPr/>
          <p:nvPr/>
        </p:nvSpPr>
        <p:spPr>
          <a:xfrm>
            <a:off x="3276720" y="5084640"/>
            <a:ext cx="2889000" cy="49536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芙蓉国泰紫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分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0"/>
          <p:cNvSpPr/>
          <p:nvPr/>
        </p:nvSpPr>
        <p:spPr>
          <a:xfrm>
            <a:off x="539640" y="1557360"/>
            <a:ext cx="7993080" cy="475128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蒋锡佳  李先生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rlee.com.cn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柴火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chaihuo.com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刘恋     秦皇食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hinaqhsf.com/index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毛家湾饭店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aojiawan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曾隽     大蓉和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daronghe.cn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湖南大碗菜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hndwc.com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圣添姿 湘里人家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xlrj8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廖排骨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iaopaigu.com/home/liaopaigu/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完成所有分析报告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讨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 杨梅重新整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调研文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网站调研报告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d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0"/>
          <p:cNvSpPr/>
          <p:nvPr/>
        </p:nvSpPr>
        <p:spPr>
          <a:xfrm>
            <a:off x="539640" y="1628640"/>
            <a:ext cx="7993080" cy="468000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网站布局不应该做的过于复杂，也不应该做的很拘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主要突出的应该是用餐坏境和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色调需统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图片质量有非常高的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一个网站想体现哪种风格对它所采用的色彩很重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网站基本都有在线咨询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楷体"/>
              </a:rPr>
              <a:t>谢谢观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718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03:39:14Z</dcterms:created>
  <dc:creator>Administrator</dc:creator>
  <dc:description/>
  <cp:keywords/>
  <dc:language>en-US</dc:language>
  <cp:lastModifiedBy>793564075@qq.com</cp:lastModifiedBy>
  <dcterms:modified xsi:type="dcterms:W3CDTF">2016-09-26T13:11:35Z</dcterms:modified>
  <cp:revision>8</cp:revision>
  <dc:subject/>
  <dc:title>40个精美PPT模板（目录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