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ECF0-04C5-40B7-AE5D-2E3597FA44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AC3C-21F8-4817-A888-738AA8A688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8D8E-6B0F-4CA5-9CF8-1AB62CF7073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2663-2482-42D8-8C22-9697F91E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1AA4-290D-42D8-9F76-CEF92ED3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E541-5869-4C49-9F65-FA74C56A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32F-BCA0-456A-94FC-D2145A23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646-C16B-4679-981E-5CF76514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980C-F96D-4928-A54D-A5735CA9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11A3-FE8A-4824-BE0A-7B0264FB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DBA0-0C28-4037-96F5-09697CDD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0D4E-B9F1-41AF-8B91-7D6A4E12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F1E1-E450-4318-9227-C7C60D1F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0F2F-9ED6-4B8C-8AA4-39BF550B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686A-7CD8-460E-B9F8-85B24E2F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22F9-5143-4622-9F26-C7EA036492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38656;&#27714;&#25991;&#26723;.doc" TargetMode="External"/><Relationship Id="rId2" Type="http://schemas.openxmlformats.org/officeDocument/2006/relationships/hyperlink" Target="file:///&#38656;&#27714;&#25991;&#26723;.doc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6366;&#38589;%20&#21512;&#21516;.doc" TargetMode="External"/><Relationship Id="rId2" Type="http://schemas.openxmlformats.org/officeDocument/2006/relationships/hyperlink" Target="file:///&#26366;&#38589;%20&#21512;&#21516;.doc" TargetMode="External"/><Relationship Id="rId3" Type="http://schemas.openxmlformats.org/officeDocument/2006/relationships/hyperlink" Target="file:///&#22307;&#28155;&#23039;.wps" TargetMode="External"/><Relationship Id="rId4" Type="http://schemas.openxmlformats.org/officeDocument/2006/relationships/hyperlink" Target="file:///&#22307;&#28155;&#23039;.wps" TargetMode="External"/><Relationship Id="rId5" Type="http://schemas.openxmlformats.org/officeDocument/2006/relationships/hyperlink" Target="file:///&#22307;&#28155;&#23039;.wps" TargetMode="External"/><Relationship Id="rId6" Type="http://schemas.openxmlformats.org/officeDocument/2006/relationships/hyperlink" Target="file:///&#21016;&#24651;%20&#21512;&#21516;.docx" TargetMode="External"/><Relationship Id="rId7" Type="http://schemas.openxmlformats.org/officeDocument/2006/relationships/hyperlink" Target="file:///&#21016;&#24651;%20&#21512;&#21516;.docx" TargetMode="External"/><Relationship Id="rId8" Type="http://schemas.openxmlformats.org/officeDocument/2006/relationships/hyperlink" Target="file:///&#21016;&#24651;%20&#21512;&#21516;.docx" TargetMode="External"/><Relationship Id="rId9" Type="http://schemas.openxmlformats.org/officeDocument/2006/relationships/hyperlink" Target="file:///&#33931;&#38177;&#20339;.docx" TargetMode="External"/><Relationship Id="rId10" Type="http://schemas.openxmlformats.org/officeDocument/2006/relationships/hyperlink" Target="file:///&#33931;&#38177;&#20339;.docx" TargetMode="External"/><Relationship Id="rId11" Type="http://schemas.openxmlformats.org/officeDocument/2006/relationships/hyperlink" Target="file:///&#33931;&#38177;&#20339;.docx" TargetMode="External"/><Relationship Id="rId12" Type="http://schemas.openxmlformats.org/officeDocument/2006/relationships/hyperlink" Target="file:///&#26472;&#26757;.doc" TargetMode="External"/><Relationship Id="rId13" Type="http://schemas.openxmlformats.org/officeDocument/2006/relationships/hyperlink" Target="file:///&#26472;&#26757;.doc" TargetMode="External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21512;&#21516;.doc" TargetMode="External"/><Relationship Id="rId2" Type="http://schemas.openxmlformats.org/officeDocument/2006/relationships/hyperlink" Target="file:///&#21512;&#21516;.doc" TargetMode="Externa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8007480" cy="1225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楷体"/>
                <a:ea typeface="楷体"/>
              </a:rPr>
              <a:t>We</a:t>
            </a:r>
            <a:r>
              <a:rPr b="1" i="1" lang="zh-CN" sz="4400" spc="-1" strike="noStrike">
                <a:solidFill>
                  <a:srgbClr val="ff9900"/>
                </a:solidFill>
                <a:latin typeface="楷体"/>
                <a:ea typeface="楷体"/>
              </a:rPr>
              <a:t>奇迹项目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79640" y="3500280"/>
            <a:ext cx="51134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五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杨梅 刘恋 圣添姿 蒋锡佳 曾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单圆角矩形 3"/>
          <p:cNvSpPr/>
          <p:nvPr/>
        </p:nvSpPr>
        <p:spPr>
          <a:xfrm flipH="1">
            <a:off x="2843280" y="2502000"/>
            <a:ext cx="527040" cy="4953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叶根友爵宋体"/>
                <a:ea typeface="叶根友爵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3348000" y="2502000"/>
            <a:ext cx="2879640" cy="495360"/>
          </a:xfrm>
          <a:prstGeom prst="rect">
            <a:avLst/>
          </a:prstGeom>
          <a:solidFill>
            <a:srgbClr val="d4e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需求文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单圆角矩形 7"/>
          <p:cNvSpPr/>
          <p:nvPr/>
        </p:nvSpPr>
        <p:spPr>
          <a:xfrm>
            <a:off x="6248520" y="3294000"/>
            <a:ext cx="527040" cy="4953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叶根友爵宋体"/>
                <a:ea typeface="叶根友爵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3348000" y="3284640"/>
            <a:ext cx="2879640" cy="495360"/>
          </a:xfrm>
          <a:prstGeom prst="rect">
            <a:avLst/>
          </a:prstGeom>
          <a:solidFill>
            <a:srgbClr val="d4e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撰写合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3"/>
          <p:cNvSpPr/>
          <p:nvPr/>
        </p:nvSpPr>
        <p:spPr>
          <a:xfrm>
            <a:off x="199440" y="2100240"/>
            <a:ext cx="182628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2c9"/>
                </a:solidFill>
                <a:latin typeface="微软雅黑"/>
              </a:rPr>
              <a:t>Cont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4"/>
          <p:cNvSpPr/>
          <p:nvPr/>
        </p:nvSpPr>
        <p:spPr>
          <a:xfrm>
            <a:off x="1022400" y="1130400"/>
            <a:ext cx="869760" cy="869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000"/>
                </a:solidFill>
                <a:latin typeface="微软雅黑"/>
              </a:rPr>
              <a:t>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5"/>
          <p:cNvSpPr/>
          <p:nvPr/>
        </p:nvSpPr>
        <p:spPr>
          <a:xfrm>
            <a:off x="739800" y="1809720"/>
            <a:ext cx="682560" cy="68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000"/>
                </a:solidFill>
                <a:latin typeface="微软雅黑"/>
              </a:rPr>
              <a:t>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单圆角矩形 3"/>
          <p:cNvSpPr/>
          <p:nvPr/>
        </p:nvSpPr>
        <p:spPr>
          <a:xfrm flipH="1">
            <a:off x="2820960" y="4086360"/>
            <a:ext cx="527040" cy="49500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叶根友爵宋体"/>
                <a:ea typeface="叶根友爵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3348000" y="4086360"/>
            <a:ext cx="2879640" cy="495000"/>
          </a:xfrm>
          <a:prstGeom prst="rect">
            <a:avLst/>
          </a:prstGeom>
          <a:solidFill>
            <a:srgbClr val="d4e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合同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任意多边形 14"/>
          <p:cNvSpPr/>
          <p:nvPr/>
        </p:nvSpPr>
        <p:spPr>
          <a:xfrm flipH="1">
            <a:off x="0" y="692280"/>
            <a:ext cx="2324160" cy="687240"/>
          </a:xfrm>
          <a:prstGeom prst="pie">
            <a:avLst/>
          </a:prstGeom>
          <a:gradFill rotWithShape="0">
            <a:gsLst>
              <a:gs pos="0">
                <a:srgbClr val="c59b00"/>
              </a:gs>
              <a:gs pos="100000">
                <a:srgbClr val="ffca08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216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求文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需求文档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任意多边形 14"/>
          <p:cNvSpPr/>
          <p:nvPr/>
        </p:nvSpPr>
        <p:spPr>
          <a:xfrm flipH="1">
            <a:off x="0" y="692280"/>
            <a:ext cx="2324160" cy="687240"/>
          </a:xfrm>
          <a:prstGeom prst="pie">
            <a:avLst/>
          </a:prstGeom>
          <a:gradFill rotWithShape="0">
            <a:gsLst>
              <a:gs pos="0">
                <a:srgbClr val="c59b00"/>
              </a:gs>
              <a:gs pos="100000">
                <a:srgbClr val="ffca08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216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撰写合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6048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曾隽 合同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圣添姿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刘恋 合同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doc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蒋锡佳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doc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杨梅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任意多边形 14"/>
          <p:cNvSpPr/>
          <p:nvPr/>
        </p:nvSpPr>
        <p:spPr>
          <a:xfrm flipH="1">
            <a:off x="0" y="692280"/>
            <a:ext cx="2324160" cy="687240"/>
          </a:xfrm>
          <a:prstGeom prst="pie">
            <a:avLst/>
          </a:prstGeom>
          <a:gradFill rotWithShape="0">
            <a:gsLst>
              <a:gs pos="0">
                <a:srgbClr val="c59b00"/>
              </a:gs>
              <a:gs pos="100000">
                <a:srgbClr val="ffca08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216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合同整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合同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d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楷体"/>
              </a:rPr>
              <a:t>谢谢观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718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03:39:14Z</dcterms:created>
  <dc:creator>Administrator</dc:creator>
  <dc:description/>
  <cp:keywords/>
  <dc:language>en-US</dc:language>
  <cp:lastModifiedBy>793564075@qq.com</cp:lastModifiedBy>
  <dcterms:modified xsi:type="dcterms:W3CDTF">2016-10-08T11:22:58Z</dcterms:modified>
  <cp:revision>12</cp:revision>
  <dc:subject/>
  <dc:title>40个精美PPT模板（目录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9</vt:lpwstr>
  </property>
</Properties>
</file>