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4F83-E7A8-4551-B9D6-8E21BE9F88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9047-36E9-499B-979D-70FDCD95D2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CF4-D6AF-4250-823C-3B897FACF8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C13-16C3-40E3-9168-A50FD8E2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99A-E94B-4076-A093-DA4170A7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16B-DFC8-4B84-AF0D-BCEADA83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16C-8EAD-4C47-999D-723E242B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CA1-DFB3-4057-8462-BE2A7FAE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E6C-940B-42D9-BC43-976D40D2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DE3-55F4-445B-BA7B-E2F92BA0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129-43D6-4F9B-BF5D-0D6C9540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E65-25DE-4DDE-BB89-D17785FB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3E9-7978-4E70-B147-4C96DA4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649-6DA5-4923-8CB3-315560E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EFA-24A0-4B10-9964-F2F4EF0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53EB-81D7-46D6-B15C-224177EFC0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cx/index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zcx/paging/contac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zcx/paging/contac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8007480" cy="122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99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3500280"/>
            <a:ext cx="511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单圆角矩形 3"/>
          <p:cNvSpPr/>
          <p:nvPr/>
        </p:nvSpPr>
        <p:spPr>
          <a:xfrm flipH="1">
            <a:off x="2843280" y="2502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348000" y="250200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页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单圆角矩形 7"/>
          <p:cNvSpPr/>
          <p:nvPr/>
        </p:nvSpPr>
        <p:spPr>
          <a:xfrm>
            <a:off x="6248520" y="3294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348000" y="328464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199440" y="2100240"/>
            <a:ext cx="1826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2c9"/>
                </a:solidFill>
                <a:latin typeface="微软雅黑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1022400" y="1130400"/>
            <a:ext cx="869760" cy="869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000"/>
                </a:solidFill>
                <a:latin typeface="微软雅黑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5"/>
          <p:cNvSpPr/>
          <p:nvPr/>
        </p:nvSpPr>
        <p:spPr>
          <a:xfrm>
            <a:off x="739800" y="180972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单圆角矩形 3"/>
          <p:cNvSpPr/>
          <p:nvPr/>
        </p:nvSpPr>
        <p:spPr>
          <a:xfrm flipH="1">
            <a:off x="2820960" y="4086360"/>
            <a:ext cx="527040" cy="495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3348000" y="408636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站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单圆角矩形 7"/>
          <p:cNvSpPr/>
          <p:nvPr/>
        </p:nvSpPr>
        <p:spPr>
          <a:xfrm>
            <a:off x="6319800" y="489096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3419640" y="486900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页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7488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页代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cx\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页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4896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cx\paging\contact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整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4896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cx\paging\contact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效果不出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不熟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39:14Z</dcterms:created>
  <dc:creator>Administrator</dc:creator>
  <dc:description/>
  <cp:keywords/>
  <dc:language>en-US</dc:language>
  <cp:lastModifiedBy>793564075@qq.com</cp:lastModifiedBy>
  <dcterms:modified xsi:type="dcterms:W3CDTF">2016-11-22T08:16:28Z</dcterms:modified>
  <cp:revision>19</cp:revision>
  <dc:subject/>
  <dc:title>40个精美PPT模板（目录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