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1C6C-BC5F-4F99-893F-129595FB9E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5C34-6DDA-421E-9008-72CBC485C8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E83-1146-46FF-B8BA-68FEA3F4DC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520-0C99-437D-BF60-BB16296E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C16-44F2-4C25-AF05-486214C3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842-3E05-4E4B-B0B9-0C2B2866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B24-BF65-494A-9CA2-39B741C3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BA8-817B-4580-AC7E-E5E40EF4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01D-03BA-4EB3-A81E-83BBEF9C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775-9B5F-4A90-8913-48421093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3477-625B-410B-8B58-09985FA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65B-DE3F-4858-A1B8-E9CD9E02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F75-0584-4D0F-B623-F01F7952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6BA-C585-4E99-8295-522AA58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1F6-02B6-4CCD-A34B-033A6E4A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0A52-6D55-4719-8990-2CDC14C835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8007480" cy="122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楷体"/>
                <a:ea typeface="楷体"/>
              </a:rPr>
              <a:t>We</a:t>
            </a:r>
            <a:r>
              <a:rPr b="1" i="1" lang="zh-CN" sz="4400" spc="-1" strike="noStrike">
                <a:solidFill>
                  <a:srgbClr val="ff9900"/>
                </a:solidFill>
                <a:latin typeface="楷体"/>
                <a:ea typeface="楷体"/>
              </a:rPr>
              <a:t>奇迹首页设计汇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9640" y="3500280"/>
            <a:ext cx="51134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七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杨梅 刘恋 圣添姿 蒋锡佳 曾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单圆角矩形 3"/>
          <p:cNvSpPr/>
          <p:nvPr/>
        </p:nvSpPr>
        <p:spPr>
          <a:xfrm flipH="1">
            <a:off x="2843280" y="2502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348000" y="250200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进度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单圆角矩形 7"/>
          <p:cNvSpPr/>
          <p:nvPr/>
        </p:nvSpPr>
        <p:spPr>
          <a:xfrm>
            <a:off x="6248520" y="329400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348000" y="3284640"/>
            <a:ext cx="2879640" cy="49536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计初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3"/>
          <p:cNvSpPr/>
          <p:nvPr/>
        </p:nvSpPr>
        <p:spPr>
          <a:xfrm>
            <a:off x="199440" y="2100240"/>
            <a:ext cx="1826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2c9"/>
                </a:solidFill>
                <a:latin typeface="微软雅黑"/>
              </a:rPr>
              <a:t>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1022400" y="1130400"/>
            <a:ext cx="869760" cy="869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000"/>
                </a:solidFill>
                <a:latin typeface="微软雅黑"/>
              </a:rPr>
              <a:t>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5"/>
          <p:cNvSpPr/>
          <p:nvPr/>
        </p:nvSpPr>
        <p:spPr>
          <a:xfrm>
            <a:off x="739800" y="1809720"/>
            <a:ext cx="682560" cy="682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000"/>
                </a:solidFill>
                <a:latin typeface="微软雅黑"/>
              </a:rPr>
              <a:t>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单圆角矩形 3"/>
          <p:cNvSpPr/>
          <p:nvPr/>
        </p:nvSpPr>
        <p:spPr>
          <a:xfrm flipH="1">
            <a:off x="2820960" y="4086360"/>
            <a:ext cx="527040" cy="4950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3348000" y="408636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设计第二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单圆角矩形 7"/>
          <p:cNvSpPr/>
          <p:nvPr/>
        </p:nvSpPr>
        <p:spPr>
          <a:xfrm>
            <a:off x="6319800" y="4890960"/>
            <a:ext cx="527040" cy="4953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叶根友爵宋体"/>
                <a:ea typeface="叶根友爵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3419640" y="4869000"/>
            <a:ext cx="2879640" cy="495000"/>
          </a:xfrm>
          <a:prstGeom prst="rect">
            <a:avLst/>
          </a:prstGeom>
          <a:solidFill>
            <a:srgbClr val="d4e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度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63520" y="2637000"/>
          <a:ext cx="8701200" cy="304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2637000"/>
                    <a:ext cx="87012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初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4895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11280" y="1504800"/>
            <a:ext cx="7704000" cy="535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8209080" cy="5025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4360" y="1457280"/>
            <a:ext cx="8820360" cy="540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1916280"/>
            <a:ext cx="8893080" cy="4213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1557360"/>
            <a:ext cx="8893080" cy="544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第二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489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258920"/>
            <a:ext cx="9144000" cy="559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0" y="1295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1268280"/>
            <a:ext cx="9144000" cy="54961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14"/>
          <p:cNvSpPr/>
          <p:nvPr/>
        </p:nvSpPr>
        <p:spPr>
          <a:xfrm flipH="1">
            <a:off x="0" y="692280"/>
            <a:ext cx="2324160" cy="687240"/>
          </a:xfrm>
          <a:prstGeom prst="pie">
            <a:avLst/>
          </a:prstGeom>
          <a:gradFill rotWithShape="0">
            <a:gsLst>
              <a:gs pos="0">
                <a:srgbClr val="c59b00"/>
              </a:gs>
              <a:gs pos="100000">
                <a:srgbClr val="ffca08"/>
              </a:gs>
            </a:gsLst>
            <a:lin ang="5400000"/>
          </a:gradFill>
          <a:ln w="0">
            <a:noFill/>
          </a:ln>
          <a:effectLst>
            <a:outerShdw dist="38183" dir="2700000" blurRad="0" rotWithShape="0">
              <a:srgbClr val="000000">
                <a:alpha val="1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6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4895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设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配色  排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楷体"/>
              </a:rPr>
              <a:t>谢谢观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3:39:14Z</dcterms:created>
  <dc:creator>Administrator</dc:creator>
  <dc:description/>
  <cp:keywords/>
  <dc:language>en-US</dc:language>
  <cp:lastModifiedBy>793564075@qq.com</cp:lastModifiedBy>
  <dcterms:modified xsi:type="dcterms:W3CDTF">2016-11-22T07:50:03Z</dcterms:modified>
  <cp:revision>16</cp:revision>
  <dc:subject/>
  <dc:title>40个精美PPT模板（目录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